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explos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crunch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6B32-E617-4D0C-B14B-C75C9C6F3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BC2E-9F51-4277-A9C2-CE5EE6940A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105-A399-40A4-8C04-84F830F1B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797-ED90-4050-B818-0B7D8D42DF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3C5-069A-4811-AC2B-B66022A168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3DCD-B2BB-4533-9EDD-C35DCF586B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5DF-5DBF-47D8-9B77-BA70A21A14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EFE5-408D-48BD-A729-A2240B87F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F0B6-5B46-4B30-922F-C1388860E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CEA7-646F-48FE-B32B-6BD8BD180C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3444-74F3-4DBC-BDF4-8257B4FB6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141-8633-4007-9022-D84CE7AD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EE1-9D74-44E3-9362-C4CFB01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777-D6AD-460F-88B4-C9F078D1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408-66A2-4EFB-A984-91E8E387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25A-B85F-44C4-B9F9-EC2171B9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311E-24B1-478C-930E-AB77253C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1FCB-3403-49CE-BA95-3CBE98E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02B2-E76B-42AF-BDBB-4118A87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7902-850B-467B-9138-DA53FFF1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26CC-36FA-453C-B5AD-7ABD373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80B-F6DD-4853-BEF1-B229849E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FCB6-D5B2-49F4-B112-32010D4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04AE-440F-40FD-A0D4-16E512F4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0BB4-A84B-4AEB-BAAC-77C5224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77D-080F-40EC-BCB1-931D650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B926-60E4-4F2D-AFB7-897345C0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B521-AA89-41B1-AB01-4F2BBB99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7B8A-40DD-4423-A89D-568ECFE4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0C6-04B4-4769-8368-F512FD3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4E1-8327-4B44-8A85-F50DFC3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799-BEA3-4FF7-B7E1-3AAC23D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D54-ED39-44BE-80EB-AF81E40B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4B4-E071-4EC0-BF59-2A6C249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C78-333A-4CC3-90D1-D395073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4C75-E9E8-414B-BB0E-76BB2314C6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B76-E23F-4474-B92C-0FEC30C2DA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crunch.wav"/><Relationship Id="rId10" Type="http://schemas.openxmlformats.org/officeDocument/2006/relationships/audio" Target="../media/explosion.wav"/><Relationship Id="rId11" Type="http://schemas.openxmlformats.org/officeDocument/2006/relationships/audio" Target="../media/explosion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explosion.wav"/><Relationship Id="rId10" Type="http://schemas.openxmlformats.org/officeDocument/2006/relationships/audio" Target="../media/explosion.wav"/><Relationship Id="rId11" Type="http://schemas.openxmlformats.org/officeDocument/2006/relationships/audio" Target="../media/crunch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has no errors in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studygirl.jpg"/>
          <p:cNvPicPr/>
          <p:nvPr/>
        </p:nvPicPr>
        <p:blipFill>
          <a:blip r:embed="rId1"/>
          <a:stretch/>
        </p:blipFill>
        <p:spPr>
          <a:xfrm>
            <a:off x="1828800" y="3048120"/>
            <a:ext cx="2025720" cy="350496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ular Callout 8"/>
          <p:cNvSpPr/>
          <p:nvPr/>
        </p:nvSpPr>
        <p:spPr>
          <a:xfrm>
            <a:off x="5715000" y="4191120"/>
            <a:ext cx="2057400" cy="1828800"/>
          </a:xfrm>
          <a:prstGeom prst="wedgeRoundRectCallout">
            <a:avLst>
              <a:gd name="adj1" fmla="val -175712"/>
              <a:gd name="adj2" fmla="val -315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see h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51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7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57200" y="1752480"/>
            <a:ext cx="822960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correct word or phrase within the context suggested by the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studygirl02.JPG"/>
          <p:cNvPicPr/>
          <p:nvPr/>
        </p:nvPicPr>
        <p:blipFill>
          <a:blip r:embed="rId1"/>
          <a:stretch/>
        </p:blipFill>
        <p:spPr>
          <a:xfrm>
            <a:off x="5356080" y="3200400"/>
            <a:ext cx="1924200" cy="3327480"/>
          </a:xfrm>
          <a:prstGeom prst="rect">
            <a:avLst/>
          </a:prstGeom>
          <a:ln w="0">
            <a:noFill/>
          </a:ln>
        </p:spPr>
      </p:pic>
      <p:sp>
        <p:nvSpPr>
          <p:cNvPr id="204" name="Rounded Rectangular Callout 8"/>
          <p:cNvSpPr/>
          <p:nvPr/>
        </p:nvSpPr>
        <p:spPr>
          <a:xfrm>
            <a:off x="1676520" y="4572000"/>
            <a:ext cx="2057400" cy="1523880"/>
          </a:xfrm>
          <a:prstGeom prst="wedgeRoundRectCallout">
            <a:avLst>
              <a:gd name="adj1" fmla="val 165550"/>
              <a:gd name="adj2" fmla="val -5243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861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361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parallel01_edit.JPG"/>
          <p:cNvPicPr/>
          <p:nvPr/>
        </p:nvPicPr>
        <p:blipFill>
          <a:blip r:embed="rId1"/>
          <a:stretch/>
        </p:blipFill>
        <p:spPr>
          <a:xfrm>
            <a:off x="3232080" y="1981080"/>
            <a:ext cx="2635200" cy="4857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rallel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3809880"/>
            <a:ext cx="2438280" cy="1828800"/>
          </a:xfrm>
          <a:prstGeom prst="wedgeRoundRectCallout">
            <a:avLst>
              <a:gd name="adj1" fmla="val 106949"/>
              <a:gd name="adj2" fmla="val -42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tici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629400" y="4114800"/>
            <a:ext cx="2209680" cy="1600200"/>
          </a:xfrm>
          <a:prstGeom prst="wedgeRoundRectCallout">
            <a:avLst>
              <a:gd name="adj1" fmla="val -134851"/>
              <a:gd name="adj2" fmla="val -56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hould I use 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infiniti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9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thumbsup_edit.JPG"/>
          <p:cNvPicPr/>
          <p:nvPr/>
        </p:nvPicPr>
        <p:blipFill>
          <a:blip r:embed="rId1"/>
          <a:stretch/>
        </p:blipFill>
        <p:spPr>
          <a:xfrm>
            <a:off x="4800600" y="762120"/>
            <a:ext cx="3218040" cy="579096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990720" y="2286000"/>
            <a:ext cx="2514600" cy="3505320"/>
          </a:xfrm>
          <a:prstGeom prst="wedgeRoundRectCallout">
            <a:avLst>
              <a:gd name="adj1" fmla="val 144865"/>
              <a:gd name="adj2" fmla="val -257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distinguishing 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n-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arallelism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Direc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oose the sentence that has no errors in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27"/>
          <p:cNvSpPr/>
          <p:nvPr/>
        </p:nvSpPr>
        <p:spPr>
          <a:xfrm>
            <a:off x="6858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aralle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ems in a series must have parallel struc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296532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pple_edit.JPG"/>
          <p:cNvPicPr/>
          <p:nvPr/>
        </p:nvPicPr>
        <p:blipFill>
          <a:blip r:embed="rId3"/>
          <a:stretch/>
        </p:blipFill>
        <p:spPr>
          <a:xfrm>
            <a:off x="620244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45284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omb_edit.JPG"/>
          <p:cNvPicPr/>
          <p:nvPr/>
        </p:nvPicPr>
        <p:blipFill>
          <a:blip r:embed="rId5"/>
          <a:stretch/>
        </p:blipFill>
        <p:spPr>
          <a:xfrm>
            <a:off x="3962520" y="4452840"/>
            <a:ext cx="909360" cy="1185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41972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990720" y="3124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34290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49528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90720" y="4952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34290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70866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0866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81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82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82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82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82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883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83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01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901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0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702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re is an 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1027"/>
          <p:cNvSpPr/>
          <p:nvPr/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thumbsup_edit.JPG"/>
          <p:cNvPicPr/>
          <p:nvPr/>
        </p:nvPicPr>
        <p:blipFill>
          <a:blip r:embed="rId1"/>
          <a:stretch/>
        </p:blipFill>
        <p:spPr>
          <a:xfrm>
            <a:off x="6332400" y="3124080"/>
            <a:ext cx="20750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Rounded Rectangular Callout 4"/>
          <p:cNvSpPr/>
          <p:nvPr/>
        </p:nvSpPr>
        <p:spPr>
          <a:xfrm>
            <a:off x="990720" y="4191120"/>
            <a:ext cx="3504960" cy="2133360"/>
          </a:xfrm>
          <a:prstGeom prst="wedgeRoundRectCallout">
            <a:avLst>
              <a:gd name="adj1" fmla="val 126518"/>
              <a:gd name="adj2" fmla="val -30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781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281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7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n-parallel structu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52424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n’t create problems by mixing grammatical elements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334656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334656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apple_edit.JPG"/>
          <p:cNvPicPr/>
          <p:nvPr/>
        </p:nvPicPr>
        <p:blipFill>
          <a:blip r:embed="rId3"/>
          <a:stretch/>
        </p:blipFill>
        <p:spPr>
          <a:xfrm>
            <a:off x="3962520" y="518148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83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bomb_edit.JPG"/>
          <p:cNvPicPr/>
          <p:nvPr/>
        </p:nvPicPr>
        <p:blipFill>
          <a:blip r:embed="rId5"/>
          <a:stretch/>
        </p:blipFill>
        <p:spPr>
          <a:xfrm>
            <a:off x="6253200" y="312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75776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990720" y="3657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4290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4952880" y="36576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990720" y="53341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34290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5029200" y="53341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70866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70866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881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82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282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282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82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83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83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1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1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1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901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02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7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roblem looks like thi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Rectangle 1027"/>
          <p:cNvSpPr/>
          <p:nvPr/>
        </p:nvSpPr>
        <p:spPr>
          <a:xfrm>
            <a:off x="68580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716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ing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unhappy_edit.JPG"/>
          <p:cNvPicPr/>
          <p:nvPr/>
        </p:nvPicPr>
        <p:blipFill>
          <a:blip r:embed="rId1"/>
          <a:stretch/>
        </p:blipFill>
        <p:spPr>
          <a:xfrm>
            <a:off x="6629400" y="3048120"/>
            <a:ext cx="2039760" cy="380988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ular Callout 7"/>
          <p:cNvSpPr/>
          <p:nvPr/>
        </p:nvSpPr>
        <p:spPr>
          <a:xfrm>
            <a:off x="1143000" y="4191120"/>
            <a:ext cx="3733920" cy="2361960"/>
          </a:xfrm>
          <a:prstGeom prst="wedgeRoundRectCallout">
            <a:avLst>
              <a:gd name="adj1" fmla="val 118976"/>
              <a:gd name="adj2" fmla="val -355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’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d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s, bu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sent particip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851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351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parallelism parallel non-parallel structure grammar Grammar Bytes! Robin L. Simmons</cp:keywords>
  <dc:language>en-US</dc:language>
  <cp:lastModifiedBy>RSimmons</cp:lastModifiedBy>
  <dcterms:modified xsi:type="dcterms:W3CDTF">2010-01-04T18:28:50Z</dcterms:modified>
  <cp:revision>498</cp:revision>
  <dc:subject/>
  <dc:title>Parallelism</dc:title>
</cp:coreProperties>
</file>